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0.gif" ContentType="image/gif"/>
  <Override PartName="/ppt/media/image12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AB7-B63B-48A2-AFD6-0E7560C4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45E-6445-4158-99CB-B4DE709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160-ED9A-4230-A1C6-EAEBC1FA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6B7-122F-48BC-A7BD-2E711D87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4AA3-F0CE-4735-BE64-33F8BAE5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E9B1-11F3-48CC-9967-5A0A9A67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543-6979-4D0C-95D2-0429F758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882A-AF91-4E6C-A86E-61B90410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AB05-5E0B-4DAE-8E39-DB8CAF8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B4B7-DAAC-47A3-8427-0E445A7D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C4AA-A464-4FE5-B34E-ECDDFFC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2DB-BE55-4635-9D35-2EC010D3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94E3-716D-4A44-9778-9AB3A61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9BC-B3A0-44BB-BC92-81E0B42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1913-F5E3-431E-A868-63C9B32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8FE-A5F1-49EF-95EB-11CCA5E0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4680-9581-4991-B7D9-47EBC3CC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4CE-20AF-4094-8A44-AEC85BDF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C2F-2FD3-4EBD-A771-C8FF4EE3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4DD-2E18-4C0D-A1D6-BDAD73EF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0B3-3794-4E55-BAFF-D26B152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CF1-4B1B-41CB-AB81-664182A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0DE-AB9B-4383-8B0B-EF39416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A3B-6523-488F-ABBA-A525717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E890-99AD-4DEA-9C05-93ABFD01931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E255-30A6-4CCB-8426-2E7FC9B377A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incentpienaar.wikispaces.com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vincentpienaar.wikispaces.com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3886200" cy="16765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Welcome to San Lee Middle School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Thundering Thoroughbred team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s. Christina Hu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2f1311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grade Scien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s. Faye V. Sta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2f1311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grade Language Ar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. Gregory Huf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th grade Social Studi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. Vincent Piena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th grade Ma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438280" y="5578560"/>
            <a:ext cx="198144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L 0.69166 4.62428E-007 E">
                                      <p:cBhvr>
                                        <p:cTn id="5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What if I am absen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f Parents/Guardians inform the school of long term absents the Core Teachers will leave the homework at the front office for them to pick up -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Remember website – Math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s who are absent should get the assignment from the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Extra Assignment Box”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and put the completed work in the appropriate box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348080" y="1598760"/>
            <a:ext cx="29862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5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25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What do I need for Math Clas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510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must bring their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genda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3-Ring notebook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encils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ens (Red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o class every day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3-ring binder dividers ar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ssignments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arm-Up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eek-by-Week Essential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65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65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65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65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65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665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65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265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65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865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In Gener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ll tests must be signed by parent/guardian and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tudent may correct for half credi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 Corrections should always be done on a separate sheet of loose-leaf paper and show all work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Homework is assigned every nigh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occasionally on weekend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udents may do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corrections on completed assignments that receive a grade less than 85% for partial credit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Up to three (3) late assignments will be accepted each nine (9) weeks for a maximum grade of 70%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The late assignment is due the next school day. In emergencies when homework cannot be completed, a note from a parent/guardian the day the assignment is due, will allow the student to turn in the assignment one day late for full credi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Week by Week Essentials are given on Fridays and are due the following Friday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 They are problem solving grade level review questions for the End of Grade Test that are completed only by the students. (Here is your chance for extra credit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Journals are completed every day during a new lesso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 (See Journal Guidelines for more information.) Journals can be used to help you with the Warm Up in the beginning of a lesso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00"/>
                            </p:stCondLst>
                            <p:childTnLst>
                              <p:par>
                                <p:cTn id="4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900"/>
                            </p:stCondLst>
                            <p:childTnLst>
                              <p:par>
                                <p:cTn id="4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900"/>
                            </p:stCondLst>
                            <p:childTnLst>
                              <p:par>
                                <p:cTn id="5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900"/>
                            </p:stCondLst>
                            <p:childTnLst>
                              <p:par>
                                <p:cTn id="5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900"/>
                            </p:stCondLst>
                            <p:childTnLst>
                              <p:par>
                                <p:cTn id="5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900"/>
                            </p:stCondLst>
                            <p:childTnLst>
                              <p:par>
                                <p:cTn id="5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Meet your Math Teach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vincentpiena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600200"/>
            <a:ext cx="1238040" cy="1752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825560"/>
            <a:ext cx="64292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r. Vincent Pienaa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ationality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Experience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4 years of teaching experience in Math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5 years in the USA as an Cultural Exchange Teacher, teaching Math at West Lee Middle Schoo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 year in the United Kingdom as Math Teach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6 years as an Administrator in South Africa - Principal of an Elementary Schoo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632448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4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4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9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This happens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Forte"/>
              </a:rPr>
              <a:t>everyday</a:t>
            </a: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 in Mat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2f1311"/>
                </a:solidFill>
                <a:uFillTx/>
                <a:latin typeface="Arial"/>
              </a:rPr>
              <a:t>Class room procedure/routi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2f1311"/>
                </a:solidFill>
                <a:latin typeface="Arial"/>
              </a:rPr>
              <a:t>(Starts when you enter my classroom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Sit down and take out your agenda, homework, journal, pencils and pen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NO TALKING ALLOWED AT THIS TIM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Sharpen pencils </a:t>
            </a: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if necessary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Write down your homework. This is your ticket out of my class. It </a:t>
            </a:r>
            <a:r>
              <a:rPr b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WILL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 be checked every single day before you leave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Start immediately with the </a:t>
            </a:r>
            <a:r>
              <a:rPr b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Bell ringer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. Either from the smart board or on a handout. This will usually be a quiz on the previous day’s lesson and will consist of between 3-6 questions.It will be graded  and put into the grade book immediately after completio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You have only 10 minutes for all of the abov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is happens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everyday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in Mat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Have your homework from the previous day ready, so that we can check and grade it 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After the homework has been graded put it in the appropriate homework box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Very Important–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You are responsible for putting your homework in the homework box. Homework will be graded every single day and put in the grade book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You should have your Journal ready. Teaching of the new lesson will start immediately after the previous activity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During 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the lesson you will write a Journal. See: </a:t>
            </a:r>
            <a:r>
              <a:rPr b="1" lang="en" sz="2000" spc="-1" strike="noStrike">
                <a:solidFill>
                  <a:srgbClr val="2f1311"/>
                </a:solidFill>
                <a:latin typeface="Arial"/>
              </a:rPr>
              <a:t>JOURNAL OUTLAY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You will receive a class work assignment after completion of the lesso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This class work assignment must be completed before you leave my classroom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70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f1311"/>
                </a:solidFill>
                <a:latin typeface="Arial"/>
              </a:rPr>
              <a:t>You will receive your homework assignment 5 minutes before the end of the period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 u="sng">
                <a:solidFill>
                  <a:srgbClr val="2f1311"/>
                </a:solidFill>
                <a:uFillTx/>
                <a:latin typeface="Arial"/>
              </a:rPr>
              <a:t>It’s your responsibility to ensure that you have the homework assignment. Write your name immediately on this  assignmen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f1311"/>
                </a:solidFill>
                <a:latin typeface="Arial"/>
              </a:rPr>
              <a:t>Every Friday you will receive a Week by Week Essentials. After you finish your classroom assignment you may work on your Week by Week Essenti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f1311"/>
                </a:solidFill>
                <a:latin typeface="Arial"/>
              </a:rPr>
              <a:t>At the end of the period I will check if your homework is written in your agenda. Then I will allow you to go to the next class.</a:t>
            </a:r>
            <a:r>
              <a:rPr b="0" lang="en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is happens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everyday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in Mat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5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65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315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Your Math Grade consists of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40% - Tes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0% - Homework Assignment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% - Bell Ringer(5 Minute Check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% - Week by Week Essentials (Friday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% - Journal (Every Day during Lesson Present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Homewor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mework will be on my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voicemail after 4 pm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in the afternoon. Call the school and press V. Pienaar’s extention 6572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mework will be on my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ebsite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@ 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http://vincentpienaar.wikispaces.com/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You will also find lesson plans, videos of lesson and assignments on Website. Comments/Notes are permitted on websit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mework,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on whiteboard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should be copied into agenda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every day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032360" y="2646360"/>
            <a:ext cx="361764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85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85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Progress Repor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Every Thursda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cept 2 weeks before/after official Progress Reports/Reports cards are due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he students will receive a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Progress Repo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will be in the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student’s agend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ents/guardians have to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sign 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return 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o class on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Friday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2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2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How to hand in assignments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ssignments are to be turned in on a D</a:t>
            </a: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ily Bas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ually a student will collect the assignments and put in the </a:t>
            </a: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ppropriate box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, </a:t>
            </a: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individually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can put their assignments in the appropriate box if so desire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032360" y="2646360"/>
            <a:ext cx="361764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6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6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2:24:50Z</dcterms:created>
  <dc:creator>LCS_user</dc:creator>
  <dc:description/>
  <dc:language>en-US</dc:language>
  <cp:lastModifiedBy>LCS_user</cp:lastModifiedBy>
  <dcterms:modified xsi:type="dcterms:W3CDTF">2008-08-21T18:42:21Z</dcterms:modified>
  <cp:revision>11</cp:revision>
  <dc:subject/>
  <dc:title>Welcome to San Lee Middle School Thundering Thoroughbreds Team</dc:title>
</cp:coreProperties>
</file>